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E40-5BDD-41FF-98B9-CFF2CCAD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288-C09E-42B8-8A0F-CBD359C6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2CA-DD0A-436F-90BF-74C4535A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250-0D10-4CBE-8DFA-642E6400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7F7CD-B995-4FAD-AE14-9F96E1C3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34FE6-5794-4ED8-ABCA-A42DE34B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9B91C-D02C-46BF-A6D7-4EF4CC34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B433C-149E-41D9-BCBF-316D6FBC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0B987-3BE0-4A9C-85C5-4616BC39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DE895-EB26-45DC-9C11-AF1F268E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57B36-1DC5-438C-9E4E-93ACDAC4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C09-0B93-45FD-B20A-81E2C083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D4535-7B47-4342-AB07-99E3342E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20CF4-69FB-448A-9D82-7B833BEB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3C45F-1767-48BC-A0BB-BABE0431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3CF93-A8E0-4FD1-AB19-9FD1A365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806EF-F95D-4D9A-95AF-1929D4C4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A5E-E7AA-4BA6-867A-6FEBA925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B80-E07F-4CA5-89CC-CE668D3E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103-B0FC-4994-8397-042BFD85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BCF-A837-4852-BBB9-9173E70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7C7-E360-43A7-B491-D7D66B8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161-6BB8-4742-AAD3-FB08D51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7F4-49A3-46BF-8FF2-6E08D4C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008D-5FB0-4084-95D1-EC622B8C14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4987-7A59-4F3D-B1EA-3C93E27154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iet.org/course/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piet.org/course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14475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ЕПИДЕМИОЛОШКЕ АНАЛИТИЧК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удије праћењ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удије инциденц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лонгитудинал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редимо изложене и неизлож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уп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хорт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уди која је здрав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ласификује се 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дгрупе на основ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ложености факторима ри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ријабле од интерес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одређују и мер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кохорта се пра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а се утврди појав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ових случајева 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испитиваним груп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356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Arial"/>
              </a:rPr>
              <a:t>Дизајн кохортне студије </a:t>
            </a: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(</a:t>
            </a:r>
            <a:r>
              <a:rPr b="0" lang="sr-CS" sz="4000" spc="-1" strike="noStrike">
                <a:solidFill>
                  <a:srgbClr val="e3e3ff"/>
                </a:solidFill>
                <a:latin typeface="Arial"/>
              </a:rPr>
              <a:t>Проспективне</a:t>
            </a: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ложенос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матра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сматрамо две групе њуд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ложени и неизложе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 пратимо их да видим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 ће да се разб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даци о излагању су тренутно доступ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ли ће се ефека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годити у будућ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1682640" cy="182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0" y="3581280"/>
            <a:ext cx="1143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8128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14889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2997360"/>
            <a:ext cx="8763120" cy="236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4653000"/>
            <a:ext cx="698652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0560" y="321300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368784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3573360"/>
            <a:ext cx="0" cy="99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27640" y="3573360"/>
            <a:ext cx="0" cy="99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553120" y="3213000"/>
            <a:ext cx="1657080" cy="1373040"/>
            <a:chOff x="2553120" y="3213000"/>
            <a:chExt cx="1657080" cy="1373040"/>
          </a:xfrm>
        </p:grpSpPr>
        <p:sp>
          <p:nvSpPr>
            <p:cNvPr id="176" name=""/>
            <p:cNvSpPr/>
            <p:nvPr/>
          </p:nvSpPr>
          <p:spPr>
            <a:xfrm>
              <a:off x="3394080" y="3670200"/>
              <a:ext cx="0" cy="91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53120" y="3213000"/>
              <a:ext cx="16570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Study star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433840" y="2924280"/>
            <a:ext cx="1558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occur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imes New Roman"/>
              </a:rPr>
              <a:t>Проспективне кохортне студиј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64054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EPIET </a:t>
            </a:r>
            <a:r>
              <a:rPr b="1" lang="en-GB" sz="12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GB" sz="1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</a:t>
            </a:r>
            <a:r>
              <a:rPr b="1" lang="en-GB" sz="12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33040" y="497052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cc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КОХОРТНА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СПЕКТИВНА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СТУД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стирање хипотез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односу на узрок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обе које чине кохорт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дефинишу на основ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рактеристика пре појаве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е дефинисане груп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посматрају дуже врем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ко би се измерил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упоредила фреквенциј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учаване 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ђу њ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КОХОРТНА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СПЕКТИВНА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СТУД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229600" cy="4038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0880" y="5484960"/>
            <a:ext cx="8363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, J. 1983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Dictionary of Epidemiology, New York, NY: Oxford Medical Publications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ordis, L. 2000. Epidemiology, 2nd ed., Philadelphia, PA: Elsevier Scienc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356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Arial"/>
              </a:rPr>
              <a:t>Дизајн кохортне студије </a:t>
            </a:r>
            <a:r>
              <a:rPr b="0" lang="sr-CS" sz="4000" spc="-1" strike="noStrike">
                <a:solidFill>
                  <a:srgbClr val="e3e3ff"/>
                </a:solidFill>
                <a:latin typeface="Times New Roman"/>
              </a:rPr>
              <a:t>(Ретроспективне</a:t>
            </a:r>
            <a:r>
              <a:rPr b="0" lang="sr-Latn-CS" sz="4000" spc="-1" strike="noStrike">
                <a:solidFill>
                  <a:srgbClr val="e3e3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зложенос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матрач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матрамо две групе људ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зложени и неизложе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 пратимо их да видим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 се разболе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 изложеност и ефек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 се догодили у прошл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3581280"/>
            <a:ext cx="1143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358128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1488960" cy="1482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1683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ПИРАМИДА ИСТРАЖИВАЊ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6236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2209680"/>
            <a:ext cx="8763120" cy="2362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4124160"/>
            <a:ext cx="6986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830160"/>
            <a:ext cx="630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imes New Roman"/>
              </a:rPr>
              <a:t>Ретроспективне кохортне студ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2280" y="2629080"/>
            <a:ext cx="134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06480" y="3009960"/>
            <a:ext cx="0" cy="99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25840" y="3009960"/>
            <a:ext cx="0" cy="990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11280" y="412416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cc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3480" y="2368440"/>
            <a:ext cx="1558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occur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97840" y="2535120"/>
            <a:ext cx="1657080" cy="1373040"/>
            <a:chOff x="6297840" y="2535120"/>
            <a:chExt cx="1657080" cy="1373040"/>
          </a:xfrm>
        </p:grpSpPr>
        <p:sp>
          <p:nvSpPr>
            <p:cNvPr id="202" name=""/>
            <p:cNvSpPr/>
            <p:nvPr/>
          </p:nvSpPr>
          <p:spPr>
            <a:xfrm>
              <a:off x="7138800" y="2992320"/>
              <a:ext cx="0" cy="91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97840" y="2535120"/>
              <a:ext cx="16570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Arial"/>
                </a:rPr>
                <a:t>Study star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04" name=""/>
          <p:cNvCxnSpPr>
            <a:stCxn id="194" idx="0"/>
          </p:cNvCxnSpPr>
          <p:nvPr/>
        </p:nvCxnSpPr>
        <p:spPr>
          <a:xfrm flipV="1" rot="16200000">
            <a:off x="3551400" y="117360"/>
            <a:ext cx="873720" cy="7216200"/>
          </a:xfrm>
          <a:prstGeom prst="bentConnector4">
            <a:avLst>
              <a:gd name="adj1" fmla="val -61417"/>
              <a:gd name="adj2" fmla="val 103163"/>
            </a:avLst>
          </a:prstGeom>
          <a:ln w="0">
            <a:noFill/>
          </a:ln>
        </p:spPr>
      </p:cxnSp>
      <p:sp>
        <p:nvSpPr>
          <p:cNvPr id="205" name=""/>
          <p:cNvSpPr/>
          <p:nvPr/>
        </p:nvSpPr>
        <p:spPr>
          <a:xfrm>
            <a:off x="7667640" y="64054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EPIET </a:t>
            </a:r>
            <a:r>
              <a:rPr b="1" lang="en-GB" sz="12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GB" sz="1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</a:t>
            </a:r>
            <a:r>
              <a:rPr b="1" lang="en-GB" sz="12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РАКТЕРИСТ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ају информац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 домету ефекат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заних са изложеношћ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атус изложено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одређује пре присуств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требно је дуготрајно праћ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огуће је проучавањ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ише последиц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лагањ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једном факт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лике с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купе и трају ду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Е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У односу на популац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азнати што више о повезано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међу изложено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болести (смртног исх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У односу на појединц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учава се ризик развој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и у односу на изложе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</a:rPr>
              <a:t>КОХОРТНЕ СТУДИЈ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ФАЗЕ ИЗВОЂЕЊ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8000"/>
                </a:solidFill>
                <a:latin typeface="Times New Roman"/>
              </a:rPr>
              <a:t>Избор кохор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8000"/>
                </a:solidFill>
                <a:latin typeface="Times New Roman"/>
              </a:rPr>
              <a:t>Обезбеђење информација о изложе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8000"/>
                </a:solidFill>
                <a:latin typeface="Times New Roman"/>
              </a:rPr>
              <a:t>Прећење учесталости</a:t>
            </a:r>
            <a:r>
              <a:rPr b="1" lang="sr-Latn-C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8000"/>
                </a:solidFill>
                <a:latin typeface="Times New Roman"/>
              </a:rPr>
              <a:t>оболевања и умирања</a:t>
            </a:r>
            <a:r>
              <a:rPr b="1" lang="sr-Latn-C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8000"/>
                </a:solidFill>
                <a:latin typeface="Times New Roman"/>
              </a:rPr>
              <a:t>међу изложеним и неизложеним</a:t>
            </a:r>
            <a:r>
              <a:rPr b="1" lang="sr-Latn-C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8000"/>
                </a:solidFill>
                <a:latin typeface="Times New Roman"/>
              </a:rPr>
              <a:t>хипотетичном факт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Arial"/>
              </a:rPr>
              <a:t>КОХОРТНЕ СТУДИЈ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КРИТЕРИЈУМИ ЗА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УКЉУЧИВАЊЕ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У КОХОРТУ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8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Погодност идентификације</a:t>
            </a:r>
            <a:r>
              <a:rPr b="1" lang="sr-Latn-C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и праћања испитани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8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Посебно изражена експозициј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8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Припадност одређеној популациј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Arial"/>
              </a:rPr>
              <a:t>КОХОРТНЕ</a:t>
            </a:r>
            <a:r>
              <a:rPr b="1" lang="sr-CS" sz="4800" spc="-1" strike="noStrike">
                <a:solidFill>
                  <a:srgbClr val="ffff00"/>
                </a:solidFill>
                <a:latin typeface="Times New Roman"/>
              </a:rPr>
              <a:t> СТУДИЈ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НЕКИ КРИТЕРИЈУМИ ЗА 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Arial"/>
              </a:rPr>
              <a:t>ИСКЉУЧИВАЊ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ИЗ КОХОРТ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8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Већ оболели</a:t>
            </a:r>
            <a:r>
              <a:rPr b="1" lang="sr-Latn-C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или су суспектни на обољењ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808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Особе за које не постоји</a:t>
            </a:r>
            <a:r>
              <a:rPr b="1" lang="sr-Latn-C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могућност да оболе</a:t>
            </a:r>
            <a:r>
              <a:rPr b="1" lang="sr-Latn-CS" sz="30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од болести која је предмет истраживањ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ДЕНТИФИКАЦИЈА КОХОР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дентификација специјално изложене груп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уобичајено висок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во изложено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еној супстанц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људи који се бав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еним занимањ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хорта лондонских возача аутоб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хорта радн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фабрици боја и лак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хорта људи који су преживе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томску бомбу у Јапа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иступ документацији за формирање кохор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чекивани успех у праћењ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ДЕНТИФИКАЦИЈА КОХОР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ене групе су погодн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 проучавање кохорт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бог лакоћ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снијег праћењ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ли начин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дентификовањ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ређених исход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ђу њиховим чланов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собе са унапред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лаћеним здравствени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игурањ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ређена занимањ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ритански лекар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собе са животним осигурањ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бстетрична попу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добровољц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ојниц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туден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узорак опште поп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ПЛАНИРАЊЕ ИСТРАЖИВАЊ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</a:rPr>
              <a:t>Дефинисање и образложење пробл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</a:rPr>
              <a:t>Рашчлањавање постојећег знањ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 New Roman"/>
              </a:rPr>
              <a:t>Дефинисати циљеве истраживањ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Arial"/>
              </a:rPr>
              <a:t>КОХОРТНЕ СТУДИЈ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ИЗБОР КОХОРТЕ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8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Општа популација или њен узора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8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Особе одређених занимањ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8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Групе добровољац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8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808000"/>
                </a:solidFill>
                <a:latin typeface="Arial"/>
              </a:rPr>
              <a:t>Ученици, студенти, војниц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ЕЛЕКЦИЈА ГРУПЕ ЗА ПОРЕЂ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терн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еизложени чланов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сте кохорт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ритански доктор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кстер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контролна кохорт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еизлож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општа популациј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становници истог подруч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ТВРЂИВАЊЕ СТАТУСА ИЗЛОЖЕ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питни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абораторијски тест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Физикални прегле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ебне процед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тојећа документ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ивотна сред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ОКВИР ЗА КОХОРТНУ СТУДИЈ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ИЗЛОЖЕНОСТ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ОЛЕСТ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+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ОЛЕСТ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топ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болести међу изложеним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Ie=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+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топ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болести међу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н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ложеним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 I</a:t>
            </a:r>
            <a:r>
              <a:rPr b="0" lang="sr-Latn-C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=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+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e 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/(a+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Релативни ризик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(RR)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=--------- =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Latn-CS" sz="2800" spc="-1" strike="noStrike" baseline="-25000">
                <a:solidFill>
                  <a:srgbClr val="ffffff"/>
                </a:solidFill>
                <a:latin typeface="Arial"/>
              </a:rPr>
              <a:t>0               </a:t>
            </a:r>
            <a:r>
              <a:rPr b="0" lang="sr-CS" sz="2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/(c+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Релативни ризик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(R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96400" y="313992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=--------- =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24800" y="2590920"/>
            <a:ext cx="29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e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/(a+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71440" y="3733920"/>
            <a:ext cx="32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c/(c+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53560" y="32004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ffff00"/>
                </a:solidFill>
                <a:latin typeface="Arial"/>
              </a:rPr>
              <a:t>РЕЛАТИВНИ РИЗИК</a:t>
            </a: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 (RR)</a:t>
            </a:r>
            <a:endParaRPr b="0" lang="en-US" sz="45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R = 1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изик изложених је 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ИСТИ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ао и ризик  неизложе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&gt; 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изик изложених је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ВЕЋ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го ризик неизложе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sr-CS" sz="2000" spc="-1" strike="noStrike" u="sng">
                <a:solidFill>
                  <a:srgbClr val="ffffff"/>
                </a:solidFill>
                <a:uFillTx/>
                <a:latin typeface="Arial"/>
              </a:rPr>
              <a:t>позитивна асоцијациј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огуће узрочн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&lt; 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изик изложених је 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НИЖ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го ризик неизложе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негативна асоцијациј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огуће протективно дејств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438280"/>
            <a:ext cx="433440" cy="73080"/>
          </a:xfrm>
          <a:prstGeom prst="rightArrow">
            <a:avLst>
              <a:gd name="adj1" fmla="val 50000"/>
              <a:gd name="adj2" fmla="val 14827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429000"/>
            <a:ext cx="433440" cy="71280"/>
          </a:xfrm>
          <a:prstGeom prst="rightArrow">
            <a:avLst>
              <a:gd name="adj1" fmla="val 50000"/>
              <a:gd name="adj2" fmla="val 15202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4724280"/>
            <a:ext cx="433440" cy="73080"/>
          </a:xfrm>
          <a:prstGeom prst="rightArrow">
            <a:avLst>
              <a:gd name="adj1" fmla="val 50000"/>
              <a:gd name="adj2" fmla="val 14827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АТРИБУТИВНИ РИЗИК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(AR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Разлика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измеђ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изика изложен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 неизложен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R =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изик изложени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изик неизложен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ео ризика који је директн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следица изложеност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спитиваном факт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124080"/>
            <a:ext cx="670536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e-I</a:t>
            </a:r>
            <a:r>
              <a:rPr b="0" lang="sr-Latn-C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трибутивни ризик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(AR)= -----------x 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TA 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ронарна срчана болес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от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_____________________________________________________________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sr-Latn-CS" sz="20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=a/(a+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                 Ci</a:t>
            </a:r>
            <a:r>
              <a:rPr b="0" lang="sr-Latn-C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/(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Изложеност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Хипертенз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;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олест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CHD);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лучајеви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30-60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ffff"/>
                </a:solidFill>
                <a:uFillTx/>
                <a:latin typeface="Arial"/>
              </a:rPr>
              <a:t>Разлик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кумулативних инциденциј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a/a+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]- [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=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псолутни ефека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трибутивни риз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ffffff"/>
                </a:solidFill>
                <a:uFillTx/>
                <a:latin typeface="Arial"/>
              </a:rPr>
              <a:t>Однос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кумулативних инциденциј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a/a+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]/ [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лативни ефека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лативни риз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ПЛАНИРАЊЕ ИСТРАЖИВАЊ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Дефинисање популациј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Дефинисање обележј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Формулисање хипотез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Методологиј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Arial"/>
              </a:rPr>
              <a:t>ФРАМИНГАМСКА СТУДИЈ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ЦИЉ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Идентификација фактора ризик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за коронарну бо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ПОЧЕТАК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1949.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год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ТРАЈАЊ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35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год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МЕСТ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Framingam (Masačusets, S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КОХОРТ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општа популац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узраст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30-59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г.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, 5127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испит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Arial"/>
              </a:rPr>
              <a:t>ФРАМИНГАМСКА СТУДИЈ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09120" y="2514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ИСПИТИВАНИ ФАКТОР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Хипертенз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серум холестерол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употреба алкохол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физичка активнос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уш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РЕЗУЛТА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Хипертенз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висок серум холестерол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и пушењ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– 3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најзначајниј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фактора ризика за коронарну бол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</a:rPr>
              <a:t>СТУДИЈА БРИТАНСКИХ ЛЕКАРА 1/3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ЦИЉ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Испитивање утицаја пушењ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на морталитет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од карцинома плућ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ПОЧЕТАК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1951.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ТРАЈАЊ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више од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40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МЕСТО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В. Британ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</a:rPr>
              <a:t>СТУДИЈА БРИТАНСКИХ ЛЕКАРА 2/3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8000"/>
                </a:solidFill>
                <a:uFillTx/>
                <a:latin typeface="Times New Roman"/>
              </a:rPr>
              <a:t>ИЗБОР КОХОР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Послато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59.600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упитника о пушачким навикама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лекарима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члановима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Б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3429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114800"/>
            <a:ext cx="679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Одговорило 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40.633 (34.000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м.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6633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ж.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047760" y="4572000"/>
            <a:ext cx="609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457200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17840" y="4952880"/>
            <a:ext cx="273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пушачи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непушачи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0360" y="5997600"/>
            <a:ext cx="848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Поновљен упитник о пушачким навикам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 1957, 1960, 1972, 1978, 1990.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Times New Roman"/>
              </a:rPr>
              <a:t>СТУДИЈА БРИТАНСКИХ ЛЕКАРА 3/3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2361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808000"/>
                </a:solidFill>
                <a:uFillTx/>
                <a:latin typeface="Times New Roman"/>
              </a:rPr>
              <a:t>ИСХОД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Морталитет од карцинома плућа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међу пушачима и НЕпушач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cc"/>
                </a:solidFill>
                <a:latin typeface="Times New Roman"/>
              </a:rPr>
              <a:t>РАЗЛИКЕ У МОРТАЛИТЕТУ</a:t>
            </a:r>
            <a:r>
              <a:rPr b="1" lang="sr-Latn-CS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ffcc"/>
                </a:solidFill>
                <a:latin typeface="Times New Roman"/>
              </a:rPr>
              <a:t>ОД КАРЦИНОМА ПЛУЋА</a:t>
            </a:r>
            <a:r>
              <a:rPr b="1" lang="sr-Latn-CS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ffcc"/>
                </a:solidFill>
                <a:latin typeface="Times New Roman"/>
              </a:rPr>
              <a:t>ИЗМЕЂУ ПУШАЧА И НЕПУШАЧА</a:t>
            </a:r>
            <a:r>
              <a:rPr b="1" lang="sr-Latn-CS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ffcc"/>
                </a:solidFill>
                <a:latin typeface="Times New Roman"/>
              </a:rPr>
              <a:t>ДОСТИГЛЕ СУ НИВО</a:t>
            </a:r>
            <a:r>
              <a:rPr b="1" lang="sr-Latn-CS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ffcc"/>
                </a:solidFill>
                <a:latin typeface="Times New Roman"/>
              </a:rPr>
              <a:t>СТАТИСТИЧКЕ ЗНАЧАЈНОСТИ</a:t>
            </a:r>
            <a:r>
              <a:rPr b="1" lang="sr-Latn-CS" sz="28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ffcc"/>
                </a:solidFill>
                <a:latin typeface="Times New Roman"/>
              </a:rPr>
              <a:t>ВЕЋ ПОСЛЕ</a:t>
            </a:r>
            <a:r>
              <a:rPr b="1" lang="sr-Latn-CS" sz="2800" spc="-1" strike="noStrike">
                <a:solidFill>
                  <a:srgbClr val="00ffcc"/>
                </a:solidFill>
                <a:latin typeface="Times New Roman"/>
              </a:rPr>
              <a:t> 4,5 </a:t>
            </a:r>
            <a:r>
              <a:rPr b="1" lang="sr-CS" sz="2800" spc="-1" strike="noStrike">
                <a:solidFill>
                  <a:srgbClr val="00ffcc"/>
                </a:solidFill>
                <a:latin typeface="Times New Roman"/>
              </a:rPr>
              <a:t>ГОДИНЕ</a:t>
            </a:r>
            <a:r>
              <a:rPr b="1" lang="sr-Latn-CS" sz="2800" spc="-1" strike="noStrike">
                <a:solidFill>
                  <a:srgbClr val="00ffcc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вољне за испитивањ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тке изложе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огу да утврде различите ефекте излаг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иказује временски однос између излагања и оболе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оспективне 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мањују предрасуде у утврђивању излаг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ректно мерењ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честалости 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изложених и неизложе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КОХОРТНЕ 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А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ефикасне за процену ретке 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им ако је узорак вел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купа је и дуго тр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ко је ретросп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хтева постојањ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ре документ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алидност резултат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оже бити смањена због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ипања случај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-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219320"/>
            <a:ext cx="9448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Times New Roman"/>
              </a:rPr>
              <a:t>Студије случајева и контрола</a:t>
            </a:r>
            <a:r>
              <a:rPr b="1" lang="sr-Latn-C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3000" spc="-1" strike="noStrike">
                <a:solidFill>
                  <a:srgbClr val="ffffff"/>
                </a:solidFill>
                <a:latin typeface="Times New Roman"/>
              </a:rPr>
              <a:t>анамнестичке студиј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2895480"/>
            <a:ext cx="89154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рошлост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адашњ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УЗРО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ЕФЕ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кључују људе који имају 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ја нас интерес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одговарајућу контролну груп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ли групр људи који су здрави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3809880"/>
            <a:ext cx="3124440" cy="533520"/>
          </a:xfrm>
          <a:prstGeom prst="leftArrow">
            <a:avLst>
              <a:gd name="adj1" fmla="val 50000"/>
              <a:gd name="adj2" fmla="val 1464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ошла историј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ложености факторима риз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упоређује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међу случајева и контр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ве студије су често једноставне и јефт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ристе се за истраживање узрока 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есто ретк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CASE-CONTROL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ТЕСТИРАЊЕ ХИПОТЕЗ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81320"/>
            <a:ext cx="8229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9900"/>
                </a:solidFill>
                <a:latin typeface="Times New Roman"/>
              </a:rPr>
              <a:t>НАЈТЕЖЕ И НАЈВАЖНИЈЕ</a:t>
            </a:r>
            <a:r>
              <a:rPr b="1" lang="sr-Latn-C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9900"/>
                </a:solidFill>
                <a:latin typeface="Times New Roman"/>
              </a:rPr>
              <a:t>ПИТАЊЕ У НАУЧНО -ИСТРАЖИВАЧКОМ</a:t>
            </a:r>
            <a:r>
              <a:rPr b="1" lang="sr-Latn-C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9900"/>
                </a:solidFill>
                <a:latin typeface="Times New Roman"/>
              </a:rPr>
              <a:t>РАДУ</a:t>
            </a:r>
            <a:r>
              <a:rPr b="1" lang="sr-Latn-CS" sz="3600" spc="-1" strike="noStrike">
                <a:solidFill>
                  <a:srgbClr val="ff99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ВРХ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а утврде да ли с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учајеви и контрол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зликују у популациј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уди који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у изложен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пецифичном факт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об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а болешћ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ја нас заним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идентифику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њихов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рошла изложеност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знатим факторима риз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ли оним факторим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које се сумњ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упоређуј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удима кој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немају болест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 (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контрол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рупе се пореде у однос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пропорциј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изложе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3e3ff"/>
                </a:solidFill>
                <a:latin typeface="Arial"/>
              </a:rPr>
              <a:t>КЕРАКТЕРИСТИКЕ</a:t>
            </a: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 case-control </a:t>
            </a:r>
            <a:r>
              <a:rPr b="0" lang="sr-CS" sz="4000" spc="-1" strike="noStrike">
                <a:solidFill>
                  <a:srgbClr val="e3e3ff"/>
                </a:solidFill>
                <a:latin typeface="Arial"/>
              </a:rPr>
              <a:t>студ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чешће извођ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рзо се могу извод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лики узорак није потреб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Јефт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иступ идентификовањ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ктора риз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д ретких болести је практич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 1/4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АБИР СЛИЧАЈ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идеалним условим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упа која се проучав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ебало би да укључу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е чланове посматране популац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ји су разви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питивану болест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 специфичном критеријум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оком дефинисаног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ременског пери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 2/4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АБИР СЛУЧАЈ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учајеви би требал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а представља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В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лучајев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 дефинисане популац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ли њеног узор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ји је репрезентативан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ли често и н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оводијагностикова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лучајев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у пожељниј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јер ако су дуже болесн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шко је одредити границ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међу узрока и последиц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еба укључива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цијенте који су би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ратко болесн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рзо излечени или умр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 3/4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АБИР СЛУЧАЈ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ритеријуми за укључивањ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 морају установи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а би се сузил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траживање на особ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је су под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тенцијалним ризико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д излаг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тврђивање објективног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ритеријума који вод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узданој дијагно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 4/4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АБИР СЛУЧАЈ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учајеви се одабира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 различитих извора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даци 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ничком лечењ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гистри 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писи лекар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ли послодавац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итална статист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 Св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болел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об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гистрован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одређеној болниц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одређеном временском пери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) Све оболеле особ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општој популациј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одређеном временском пери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 1/3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АБИР КОНТРОЛ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ебало би д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презентују изложеност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кторима риз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ђу члановим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питиване популац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ја има ризик да обол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ни који би би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кључени у студ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о случајев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а су развили обољењ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 2/3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АБИР КОНТР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ређење историј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ложено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међу случајев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контр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нтрол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меју имати испитивану бол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тенцијални случајев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популацији се бирају н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нов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сумичним узорко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 пописа становниш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лучајним изборо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 телефонског име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 3/3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АБИР КОНТР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обе које траже медицинску помоћ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 истој болниц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ао и случајев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 немају болест која се испиту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нички пацијент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ни који се лако идентифику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огу да разговара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желе да сарађу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нтроле које нису пацијен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мшије случај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тал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ртнер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ијатељ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ругови из одељењ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лег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раћа и сестр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одбин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тд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ЕЛЕКЦИЈА ОДГОВАРАЈУЋ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ГРУП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 УПОРЕЂИВАЊ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Е НАЈТЕЖИ 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КРИТИЧНИЈИ ПРОБЛЕМ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 ДИЗАЈНИРАЊУСТУДИЈ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ЛУЧАЈЕВА И КОНТРОЛА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ТИПОВИ ЕПИДЕМИОЛОШКИХ СТУД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псервацион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пидемиолошке студиј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перименталн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)  Инт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рвенција од стране истраживача </a:t>
            </a:r>
            <a:r>
              <a:rPr b="1" lang="sl-SI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)  Опсервационе студије дозвољав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ироди да иде својим током -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мери али се НЕ ме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228600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3505320"/>
            <a:ext cx="15238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Case-Control</a:t>
            </a:r>
            <a:r>
              <a:rPr b="1" lang="sr-Latn-CS" sz="51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sr-CS" sz="5100" spc="-1" strike="noStrike">
                <a:solidFill>
                  <a:srgbClr val="e3e3ff"/>
                </a:solidFill>
                <a:latin typeface="Times New Roman"/>
              </a:rPr>
              <a:t>СТУДИЈЕ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ФОРМАЦИЈЕ О ИЗЛОЖЕНОСТ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чешће преко упитн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ји се лично попуњав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ли ми постављам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итања случајевима и контрол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линички прегл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рење изложено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 почетка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тоде утврђивањ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зложености морају да буд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те и за случајев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за контр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CASE-CONTROL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СТУД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Случајеви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Контрол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Изложени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Неизложени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опорсија изложених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a/(a+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/(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  a(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                                      a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R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=      ----------/-------=-----------------          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R=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+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a+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                             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dds ratio = ad/b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19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imes New Roman"/>
              </a:rPr>
              <a:t>CASE-CONTROL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</a:rPr>
              <a:t>СТУДИЈ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 u="sng">
                <a:solidFill>
                  <a:srgbClr val="ffffff"/>
                </a:solidFill>
                <a:uFillTx/>
                <a:latin typeface="Times New Roman"/>
              </a:rPr>
              <a:t>ЦИЉ</a:t>
            </a:r>
            <a:r>
              <a:rPr b="1" lang="sr-Latn-CS" sz="27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Идентификација фактора ризика</a:t>
            </a:r>
            <a:r>
              <a:rPr b="1" lang="sr-Latn-C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за фокомелију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 u="sng">
                <a:solidFill>
                  <a:srgbClr val="ffffff"/>
                </a:solidFill>
                <a:uFillTx/>
                <a:latin typeface="Times New Roman"/>
              </a:rPr>
              <a:t>ВРЕМЕ</a:t>
            </a:r>
            <a:r>
              <a:rPr b="1" lang="sr-Latn-CS" sz="2700" spc="-1" strike="noStrike">
                <a:solidFill>
                  <a:srgbClr val="ffffff"/>
                </a:solidFill>
                <a:latin typeface="Times New Roman"/>
              </a:rPr>
              <a:t>: 1960-1961. </a:t>
            </a: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г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 u="sng">
                <a:solidFill>
                  <a:srgbClr val="ffffff"/>
                </a:solidFill>
                <a:uFillTx/>
                <a:latin typeface="Times New Roman"/>
              </a:rPr>
              <a:t>МЕСТО</a:t>
            </a:r>
            <a:r>
              <a:rPr b="1" lang="sr-Latn-CS" sz="27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Хамбург</a:t>
            </a:r>
            <a:r>
              <a:rPr b="1" lang="sr-Latn-CS" sz="27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Немачка</a:t>
            </a:r>
            <a:r>
              <a:rPr b="1" lang="sr-Latn-CS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 u="sng">
                <a:solidFill>
                  <a:srgbClr val="ffffff"/>
                </a:solidFill>
                <a:uFillTx/>
                <a:latin typeface="Times New Roman"/>
              </a:rPr>
              <a:t>ГРУПА ОБОЛЕЛИХ</a:t>
            </a:r>
            <a:r>
              <a:rPr b="1" lang="sr-Latn-CS" sz="2700" spc="-1" strike="noStrike">
                <a:solidFill>
                  <a:srgbClr val="ffffff"/>
                </a:solidFill>
                <a:latin typeface="Times New Roman"/>
              </a:rPr>
              <a:t>: 112 </a:t>
            </a: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мајки чија су деца имала аномалију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 u="sng">
                <a:solidFill>
                  <a:srgbClr val="ffffff"/>
                </a:solidFill>
                <a:uFillTx/>
                <a:latin typeface="Times New Roman"/>
              </a:rPr>
              <a:t>КОНТРОЛНА ГРУПА</a:t>
            </a:r>
            <a:r>
              <a:rPr b="1" lang="sr-Latn-CS" sz="27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Latn-CS" sz="2700" spc="-1" strike="noStrike">
                <a:solidFill>
                  <a:srgbClr val="ffffff"/>
                </a:solidFill>
                <a:latin typeface="Times New Roman"/>
              </a:rPr>
              <a:t>: 188 </a:t>
            </a:r>
            <a:r>
              <a:rPr b="1" lang="sr-CS" sz="2700" spc="-1" strike="noStrike">
                <a:solidFill>
                  <a:srgbClr val="ffffff"/>
                </a:solidFill>
                <a:latin typeface="Times New Roman"/>
              </a:rPr>
              <a:t>мајки чија су деца била здрав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 u="sng">
                <a:solidFill>
                  <a:srgbClr val="ffffff"/>
                </a:solidFill>
                <a:uFillTx/>
                <a:latin typeface="Times New Roman"/>
              </a:rPr>
              <a:t>ФАКТОР РИЗИКА</a:t>
            </a:r>
            <a:r>
              <a:rPr b="1" lang="sr-Latn-CS" sz="2700" spc="-1" strike="noStrike">
                <a:solidFill>
                  <a:srgbClr val="ffffff"/>
                </a:solidFill>
                <a:latin typeface="Times New Roman"/>
              </a:rPr>
              <a:t>: Talidomi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700" spc="-1" strike="noStrike">
                <a:solidFill>
                  <a:srgbClr val="ffffff"/>
                </a:solidFill>
                <a:latin typeface="Times New Roman"/>
              </a:rPr>
              <a:t>CASE-CONTROL </a:t>
            </a:r>
            <a:r>
              <a:rPr b="1" lang="sr-CS" sz="3700" spc="-1" strike="noStrike">
                <a:solidFill>
                  <a:srgbClr val="ffffff"/>
                </a:solidFill>
                <a:latin typeface="Times New Roman"/>
              </a:rPr>
              <a:t>СТУДИЈА</a:t>
            </a:r>
            <a:r>
              <a:rPr b="1" lang="sr-Latn-CS" sz="37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3700" spc="-1" strike="noStrike">
                <a:solidFill>
                  <a:srgbClr val="ffffff"/>
                </a:solidFill>
                <a:latin typeface="Times New Roman"/>
              </a:rPr>
              <a:t>Коришћење аспирина</a:t>
            </a:r>
            <a:r>
              <a:rPr b="1" lang="sr-Latn-CS" sz="3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7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3700" spc="-1" strike="noStrike">
                <a:solidFill>
                  <a:srgbClr val="ffffff"/>
                </a:solidFill>
                <a:latin typeface="Times New Roman"/>
              </a:rPr>
              <a:t> Reyeov </a:t>
            </a:r>
            <a:r>
              <a:rPr b="1" lang="sr-CS" sz="3700" spc="-1" strike="noStrike">
                <a:solidFill>
                  <a:srgbClr val="ffffff"/>
                </a:solidFill>
                <a:latin typeface="Times New Roman"/>
              </a:rPr>
              <a:t>синдром</a:t>
            </a:r>
            <a:r>
              <a:rPr b="1" lang="sr-Latn-CS" sz="3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0" y="2743200"/>
          <a:ext cx="9144000" cy="2666880"/>
        </p:xfrm>
        <a:graphic>
          <a:graphicData uri="http://schemas.openxmlformats.org/drawingml/2006/table">
            <a:tbl>
              <a:tblPr/>
              <a:tblGrid>
                <a:gridCol w="1844280"/>
                <a:gridCol w="7299720"/>
              </a:tblGrid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потреба аспир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учајеви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рола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р.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р.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р.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тензивна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уга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угови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шт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га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љења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 школе</a:t>
                      </a:r>
                      <a:r>
                        <a:rPr b="1" lang="sl-SI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C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пулациј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          12          6            20          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          18          18            25          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ВЕЛИЧ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8600" y="1600200"/>
          <a:ext cx="8458200" cy="4994280"/>
        </p:xfrm>
        <a:graphic>
          <a:graphicData uri="http://schemas.openxmlformats.org/drawingml/2006/table">
            <a:tbl>
              <a:tblPr/>
              <a:tblGrid>
                <a:gridCol w="1692360"/>
                <a:gridCol w="1832040"/>
                <a:gridCol w="1549080"/>
                <a:gridCol w="1692360"/>
                <a:gridCol w="16923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Инциденција</a:t>
                      </a: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у групи неизложени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Учесталост детектабилног </a:t>
                      </a: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бележја</a:t>
                      </a: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у популацији</a:t>
                      </a: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R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Кохортна студ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Case-control </a:t>
                      </a: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студ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/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76.7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1.4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8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5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/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7.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.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5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/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5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CASE-CONTROL </a:t>
            </a: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СТУД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9900"/>
                </a:solidFill>
                <a:latin typeface="Times New Roman"/>
              </a:rPr>
              <a:t>Случајеви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Контрол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Изложени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Неизложени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CS" sz="4000" spc="-1" strike="noStrike">
                <a:solidFill>
                  <a:srgbClr val="ff9900"/>
                </a:solidFill>
                <a:latin typeface="Times New Roman"/>
              </a:rPr>
              <a:t>ц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д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ропорција изложених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9900"/>
                </a:solidFill>
                <a:latin typeface="Times New Roman"/>
              </a:rPr>
              <a:t>a/(a+</a:t>
            </a:r>
            <a:r>
              <a:rPr b="1" lang="sr-CS" sz="4000" spc="-1" strike="noStrike">
                <a:solidFill>
                  <a:srgbClr val="ff9900"/>
                </a:solidFill>
                <a:latin typeface="Times New Roman"/>
              </a:rPr>
              <a:t>ц</a:t>
            </a:r>
            <a:r>
              <a:rPr b="1" lang="sr-Latn-C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б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/( 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б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д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CASE-CONTROL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</a:rPr>
              <a:t>СТУДИЈ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</a:rPr>
              <a:t>Коришћење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</a:rPr>
              <a:t>аспирина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 Reyeov </a:t>
            </a:r>
            <a:r>
              <a:rPr b="1" lang="sr-CS" sz="3600" spc="-1" strike="noStrike">
                <a:solidFill>
                  <a:srgbClr val="ffff00"/>
                </a:solidFill>
                <a:latin typeface="Times New Roman"/>
              </a:rPr>
              <a:t>синдром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2743200"/>
          <a:ext cx="9143640" cy="2666880"/>
        </p:xfrm>
        <a:graphic>
          <a:graphicData uri="http://schemas.openxmlformats.org/drawingml/2006/table">
            <a:tbl>
              <a:tblPr/>
              <a:tblGrid>
                <a:gridCol w="1845000"/>
                <a:gridCol w="7298640"/>
              </a:tblGrid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потреба аспир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лучајеви</a:t>
                      </a:r>
                      <a:r>
                        <a:rPr b="1" lang="sr-CS" sz="22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Контрола</a:t>
                      </a:r>
                      <a:r>
                        <a:rPr b="1" lang="sl-SI" sz="22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sr-CS" sz="22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 Контр.</a:t>
                      </a:r>
                      <a:r>
                        <a:rPr b="1" lang="sl-SI" sz="22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CS" sz="22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 Контр.</a:t>
                      </a:r>
                      <a:r>
                        <a:rPr b="1" lang="sl-SI" sz="22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sr-CS" sz="22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 Контр.</a:t>
                      </a:r>
                      <a:r>
                        <a:rPr b="1" lang="sl-SI" sz="22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sr-C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тензивна</a:t>
                      </a:r>
                      <a:r>
                        <a:rPr b="1" lang="sl-SI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C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Друга</a:t>
                      </a:r>
                      <a:r>
                        <a:rPr b="1" lang="sl-SI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r-C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ругови</a:t>
                      </a:r>
                      <a:r>
                        <a:rPr b="1" lang="sl-SI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C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пшт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1" lang="sr-C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ега</a:t>
                      </a:r>
                      <a:r>
                        <a:rPr b="1" lang="sl-SI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C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дељења</a:t>
                      </a:r>
                      <a:r>
                        <a:rPr b="1" lang="sl-SI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C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з школе</a:t>
                      </a:r>
                      <a:r>
                        <a:rPr b="1" lang="sl-SI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C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популациј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           12          6            20          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l-SI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           18          18            25          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Кохортна студ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9900"/>
                </a:solidFill>
                <a:latin typeface="Times New Roman"/>
              </a:rPr>
              <a:t>СТУДИЈА БРИТАНСКИХ ЛЕК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9900"/>
                </a:solidFill>
                <a:uFillTx/>
                <a:latin typeface="Times New Roman"/>
              </a:rPr>
              <a:t>ИЗБОР КОХОР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Послато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59.600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упитника о пушачким навикама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лекарима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члановима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Б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34290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4114800"/>
            <a:ext cx="679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Одговорило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40.633 (34.000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м.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6633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ж.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047760" y="4572000"/>
            <a:ext cx="609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457200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17840" y="4952880"/>
            <a:ext cx="27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пушачи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непушач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5410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000" y="5997600"/>
            <a:ext cx="85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Поновљен упитник о пушачким навикама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 1957, 1960, 1972, 1978, 1990. 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КОХОРТНА СТУД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NURSES’ HEALTH STUDY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 ПОЧЕТА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1989.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 ЦИЉ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Испитивање потенцијалних касних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консеквенци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употребе оралних контрацепт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 ИСПИТАНИЦ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Медицинске сестр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116.686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узраст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25-42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г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14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америчких држ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ТИПОВИ ЕПИДЕМИОЛОШКИХ СТУД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610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Дескриптивн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Опсервационе студиј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Аналитич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 Дескриптивна студија је огранич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 опис догађ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склопу 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 попул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ви корак у епидем. истраживањ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 Аналитичке студије иду дање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анализа односа 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тања здр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 различит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91120" y="228600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27672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КОХОРТНА СТУД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URSES’ HEALTH STUDY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 ПРАЋЕЊ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Сваке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2. </a:t>
            </a:r>
            <a:r>
              <a:rPr b="1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г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попуњавају упитник о присутним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болестима и темам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везаним за здрављ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укључујући пушењ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коришћење хормо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репродуктивну историј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и менопаузални статус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Сваке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4. </a:t>
            </a:r>
            <a:r>
              <a:rPr b="1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г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попуњавај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food frequency questionnaire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и упитник о квалитету жив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Times New Roman"/>
              </a:rPr>
              <a:t>ВЕЛИЧИНА УЗОР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600200"/>
          <a:ext cx="8229600" cy="4994280"/>
        </p:xfrm>
        <a:graphic>
          <a:graphicData uri="http://schemas.openxmlformats.org/drawingml/2006/table">
            <a:tbl>
              <a:tblPr/>
              <a:tblGrid>
                <a:gridCol w="1646280"/>
                <a:gridCol w="1782720"/>
                <a:gridCol w="1508040"/>
                <a:gridCol w="1646280"/>
                <a:gridCol w="16462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Инциденција у групи неизложени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Учесталост детектабилног</a:t>
                      </a: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обележја у популацији</a:t>
                      </a: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R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Кохортна студ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Case-control </a:t>
                      </a:r>
                      <a:r>
                        <a:rPr b="1" lang="sr-C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студ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/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76.7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1.4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8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5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/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7.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.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5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/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5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CASE-CONTROL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</a:rPr>
              <a:t>СТУДИЈА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Д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Лако истраживање ретких 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 оних са дуги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ериодом латен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лативно брзо се из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лативно јефт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требно је мало испита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оже се користи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ећ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стојећа документ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могућава проучавањ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ише потенцијалних узрока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705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CASE-CONTROL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</a:rPr>
              <a:t>СТУД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А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лањају се на документац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ли сећање испитаника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 претходном излагањ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некад је тешко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ли немогуће потврдит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нформацију која с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ђе у документ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елекција одговарајућ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упе за поређење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оже бити те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ије могуће утврдити след доигађа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e3e3ff"/>
                </a:solidFill>
                <a:latin typeface="Arial"/>
              </a:rPr>
              <a:t>CASE-CONTROL </a:t>
            </a:r>
            <a:r>
              <a:rPr b="1" lang="sr-CS" sz="3800" spc="-1" strike="noStrike">
                <a:solidFill>
                  <a:srgbClr val="e3e3ff"/>
                </a:solidFill>
                <a:latin typeface="Arial"/>
              </a:rPr>
              <a:t>И КОХОРТНЕ СТУДИЈЕ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80880" y="1268280"/>
          <a:ext cx="8317080" cy="5189760"/>
        </p:xfrm>
        <a:graphic>
          <a:graphicData uri="http://schemas.openxmlformats.org/drawingml/2006/table">
            <a:tbl>
              <a:tblPr/>
              <a:tblGrid>
                <a:gridCol w="283068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рактеристи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se-control </a:t>
                      </a: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удиј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хортне студиј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рој испита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њ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ћ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јање студије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аћ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уж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на студиј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ж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бор контролне груп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ћи пробл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је пробл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узданост података о изложе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њ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ћ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e3e3ff"/>
                </a:solidFill>
                <a:latin typeface="Times New Roman"/>
              </a:rPr>
              <a:t>CASE-CONTROL </a:t>
            </a:r>
            <a:r>
              <a:rPr b="1" lang="sr-CS" sz="3800" spc="-1" strike="noStrike">
                <a:solidFill>
                  <a:srgbClr val="e3e3ff"/>
                </a:solidFill>
                <a:latin typeface="Times New Roman"/>
              </a:rPr>
              <a:t>И КОХОРТНЕ СТУДИЈЕ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268280"/>
          <a:ext cx="8229600" cy="5235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рактеристи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se-control </a:t>
                      </a: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удиј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хортне студиј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 осипањ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је присут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чај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рачунавање стоп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је могућ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ућ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рачунавање релативног риз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изик се процењује индирект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ректно израчунавање риз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фекат мерењ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итивање више фактора у настанку једне боле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итивање мултиплих ефеката изложе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Times New Roman"/>
              </a:rPr>
              <a:t>ВРЕМЕНСКА ОДРЕЂЕНОСТ ИСТРАЖИВАЊ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Times New Roman"/>
              </a:rPr>
              <a:t>ПРОШЛОСТ САДАШЊОСТ БУДУЋНОСТ </a:t>
            </a:r>
            <a:r>
              <a:rPr b="1" lang="sr-Latn-C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Case-control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студ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Кохортне проспект. студ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Ретроспективн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кохортне студ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Студије прес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4114800"/>
            <a:ext cx="5029200" cy="304920"/>
          </a:xfrm>
          <a:prstGeom prst="rightArrow">
            <a:avLst>
              <a:gd name="adj1" fmla="val 50000"/>
              <a:gd name="adj2" fmla="val 41233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3200400"/>
            <a:ext cx="3124440" cy="228600"/>
          </a:xfrm>
          <a:prstGeom prst="leftArrow">
            <a:avLst>
              <a:gd name="adj1" fmla="val 50000"/>
              <a:gd name="adj2" fmla="val 34169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257800"/>
            <a:ext cx="3581640" cy="304920"/>
          </a:xfrm>
          <a:prstGeom prst="rightArrow">
            <a:avLst>
              <a:gd name="adj1" fmla="val 50000"/>
              <a:gd name="adj2" fmla="val 29365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6095880"/>
            <a:ext cx="457200" cy="381240"/>
          </a:xfrm>
          <a:prstGeom prst="donut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00"/>
                </a:solidFill>
                <a:latin typeface="Times New Roman"/>
              </a:rPr>
              <a:t>КОХОРТНЕ СТУДИЈ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120" y="27428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ДА ЛИ ЈЕ ИЗЛОЖЕНОСТ АГЕНСУ 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ОВЕЗАНА СА ПОЈАВОМ БОЛЕСТИ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УЗР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952880"/>
            <a:ext cx="1067040" cy="381240"/>
          </a:xfrm>
          <a:prstGeom prst="rightArrow">
            <a:avLst>
              <a:gd name="adj1" fmla="val 50000"/>
              <a:gd name="adj2" fmla="val 6997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7400" y="4876920"/>
            <a:ext cx="289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ff33"/>
                </a:solidFill>
                <a:latin typeface="Times New Roman"/>
              </a:rPr>
              <a:t>ПОСЛЕД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8:35:53Z</dcterms:created>
  <dc:creator>Mihailo</dc:creator>
  <dc:description/>
  <dc:language>en-US</dc:language>
  <cp:lastModifiedBy> </cp:lastModifiedBy>
  <dcterms:modified xsi:type="dcterms:W3CDTF">2020-03-20T09:17:55Z</dcterms:modified>
  <cp:revision>100</cp:revision>
  <dc:subject/>
  <dc:title>Slide 1</dc:title>
</cp:coreProperties>
</file>