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AB60-89E5-44F4-8980-591AB55D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61A8-9920-4887-803C-370EC84D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9821-076E-44C8-9584-5AED9A6C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56A2-53C4-4E8F-9372-FB8D6440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7381-5914-44F4-85E8-3CDB781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3489-378B-4690-AE28-3AA29C5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27EF-0CF7-43FB-8B43-F8CC465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75FE-1B9C-425C-AB47-4D45997F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1F89-34D8-491F-A6A0-A057D5F6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8555-559E-4AA7-9C32-A654DBBB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A097-A055-4AB7-AD5E-009E3D5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AB9D-197B-4C2E-ABE4-D6614FC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EF0-194B-422D-8C6A-094BF99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500-986C-4C52-BA3D-D54D543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B76B-4CA9-4D1C-9AFC-7887DA3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D9A2-BE2D-4FE0-ACB2-CD14909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AC9E-DC8B-4212-A4F5-E6AD97F3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2E1C-7949-46E5-9170-488D9F5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1282-EC28-41BE-918A-ABCBA71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6339-D95A-4175-83DC-6806B6C7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A91E-0697-4508-9EDF-94C37ACB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C8D3-E7B6-4FCC-A5EA-61CAE47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787E-3B3D-4C5D-BDE6-92B10C5C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4BBF-D57A-4D48-990D-D6805A22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B113-8210-448B-92B3-473BC8669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88E8-EC82-494C-9069-3A3316192C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1295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УЗРОЧНОСТ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каузалност поремећаја здравља и болести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скрипција распоређености патолошких појав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та запажам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едини догађаји показују тенденцију међусобне временске повезаности, 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ке повезаности имају посебне карактеристике које наводе на закључак да је однос узрочан тј. ради се о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зрочној асоцијациј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Одређивање каузалних веза у временском низу догађаја?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1/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иступити опрез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тпостављеном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НЕ мора неминовно да следи очекивана послед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ноге асоцијације које су у прошлости важиле као узрочне више то нис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Одређивање каузалних веза у временском низу догађаја?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2/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авдана је сумња да ће се неке везе данас прихваћене као узрочне у будућности показати неузроч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мови узрока и последице су релатив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една појава једанпут као узрок, у другом случају као последица (у зависности од степена познавања природе узрочних фактора и њихових последица-болес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Одређивање каузалних веза у временском низу догађаја?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3/3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ушењ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једне пакл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цигарета дневно током 10 го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же имати значајну улогу 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ави неких случајева 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а количина цигарета дневно је превенција болести ако је алтернатива пушење 2 пакле дневно за исти период, јер неки случајеви рака плућа који би се догодили пушењем веће количине дувана неће се појав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ТИОЛОШКО расветљавање поремећаја здравља ?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1/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социјације између претпостављеног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очекиваних последица морамо поставља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пидемиолошки метод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спитивања доприносе утврђивању њихове каузал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ечена знања омогућавају примену ефикасних мера превенције и сузбиј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тиолошко расветљавање поремећаја здравља?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2/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 Cirilica"/>
              </a:rPr>
              <a:t>Дефини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езаност међу догађајима је </a:t>
            </a:r>
            <a:r>
              <a:rPr b="1" lang="sr-CS" sz="3200" spc="-1" strike="noStrike" u="sng">
                <a:solidFill>
                  <a:srgbClr val="e22904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уколико промене у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квалитету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једних условљавају промену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723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Временска повезаност догађаја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иљ постављања асоцијације између претпостављеног узрока и очекиване последице ј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шко расветљавање (утврђивање каузал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7617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Типови међусобне повезанос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вера етиолошких хипотеза укључ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разматрање повезаности између две појаве, два догађаја (специфичне изложености и боле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социјација се односи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атистичку повезано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епен до кога је стопа оболевања у особа с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пецифичном експозицијом (Е) већа (мања) од стопе 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и неизложе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стојање повезаност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двеју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поја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ра у сваком случају да означава узрочну асоцијац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и да појава која претходи другој представља непосредни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везаност догађаја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. Статистички неповезани (независ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. Статистички повеза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зитивно или негативн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аж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секундар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пидемиологија </a:t>
            </a:r>
            <a:r>
              <a:rPr b="0" lang="en-US" sz="3500" spc="-1" strike="noStrike">
                <a:solidFill>
                  <a:srgbClr val="ffffff"/>
                </a:solidFill>
                <a:latin typeface="Arial Cirilica"/>
              </a:rPr>
              <a:t>je</a:t>
            </a: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 наука 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трибуциј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распрострањенос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учесталости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терминантама, узроцима поремећаја здравља (факторима који их условљавај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пречавању и сузбијањ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2904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не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догађаји статистички негативни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 међу посматраним појавама није статистички значај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ипотеза се може одбаци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рити хипотезу на већем узор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B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.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 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асоцијација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ткривање међусобне повеза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е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аја у оквиру појединачних случај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И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ма смисл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односу 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тегор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огађај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единачни случајеви чије карактеристике оправдавају заједничку класификациј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п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атегорија вакцинисаних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за разлику од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акцинисаног појединц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 1/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сматрају се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тегорије вакцинисаних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а разлику од вакцинисаног поједи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ије могуће са апсолутном сигурношћу установити постојање узрочне везе између два појединачна догађ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 2/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00 вакцинисаних           100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кциниса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0 оболелих                       50 оболел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Р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азлика постој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чајно настала (мало вероватн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тпостављамо статистичку повезаност (која је вероватно узрочна) између вакцинације и оболе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 3/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атистички тест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ају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статистичку значајност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сматраних пој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лико су вакцинација и одсуство болести асоцирани чешће од очекивано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везаност је израз одређеног степена вероватноће, не 100% сигурности (не значи да је у питању изрочна асоциј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 4/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 може се рећи да ј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акцинација спречила оболевање у сваком појединачном случају јер је 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групи вакцинисаних било оболел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групи невакцинисаних било здрав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 5/5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а је морбидит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групи вакцинисаних 1% (а не 2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групи невакцинисаних 99% (а не 50%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великом вероватноћом би се закључило д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е вакцинација спречила оболе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НЕузрочна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догађаји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 значи да је вез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оже б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Лаж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екунда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НЕузрочна </a:t>
            </a:r>
            <a:r>
              <a:rPr b="1" lang="sr-CS" sz="35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везаност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500" spc="-1" strike="noStrike">
                <a:solidFill>
                  <a:srgbClr val="e22904"/>
                </a:solidFill>
                <a:latin typeface="Arial Cirilica"/>
              </a:rPr>
              <a:t>Лажна повезаност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пажена веза је последи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лучајне грешке (насумич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гуће је када се испитује </a:t>
            </a:r>
            <a:r>
              <a:rPr b="0" lang="sr-CS" sz="2400" spc="-1" strike="noStrike">
                <a:solidFill>
                  <a:srgbClr val="ffcc00"/>
                </a:solidFill>
                <a:latin typeface="Arial"/>
              </a:rPr>
              <a:t>узорак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попула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поновљеном испитивању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мора да буд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казана као неисправна, лаж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 греш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проверити и одредити њен допринос у сваком испитивању узрочне повеза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уједначени критеријуми при </a:t>
            </a:r>
            <a:r>
              <a:rPr b="0" lang="sr-CS" sz="2400" spc="-1" strike="noStrike" u="sng">
                <a:solidFill>
                  <a:srgbClr val="ffcc00"/>
                </a:solidFill>
                <a:uFillTx/>
                <a:latin typeface="Arial"/>
              </a:rPr>
              <a:t>избору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испитани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селективна гре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</a:t>
            </a:r>
            <a:r>
              <a:rPr b="0" lang="sr-CS" sz="2400" spc="-1" strike="noStrike" u="sng">
                <a:solidFill>
                  <a:srgbClr val="ffcc00"/>
                </a:solidFill>
                <a:uFillTx/>
                <a:latin typeface="Arial"/>
              </a:rPr>
              <a:t>прикупљању подата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грешке мерења: ускраћивање тачних одговора и грешка сећа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узроч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повезано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200" spc="-1" strike="noStrike">
                <a:solidFill>
                  <a:srgbClr val="e22904"/>
                </a:solidFill>
                <a:latin typeface="Arial Cirilica"/>
              </a:rPr>
              <a:t>Секундарна повеза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лики број статистичких асоцијација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пуњава захтев д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јчешће су изложеност и болест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ни са неком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II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 варијаблом (конфаундин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фактор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а врста асоцираности је ч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дноси се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траживања којима открива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честалост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стрибуциј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ја популација је захваћ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ком мести се јавља бо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а ли постоји правилност у јављању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1/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915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имери секундарних асоцијација (примери погрешних, давно претпостављених асоцијација) 1/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пликација салварзана у сифилистичара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жутиц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o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е уместо салварзана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 пеницилин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морбидитет од жутице се не м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еза жутице и салварзанских ињекција настаје услед употребе нестерилних шприцева у којима се налази узрочник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лвар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стерилни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                  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жу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шприце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 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еницил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666880" y="4343040"/>
            <a:ext cx="914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48769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38680" y="4876560"/>
            <a:ext cx="11430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4267080"/>
            <a:ext cx="1067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имер секундарних асоцијација (пример погреш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давно претпоставље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асоцијаци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 2/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ала надморска висина → колера (веза надморске висине и колере настаје услед присуства колере у отпадним водама које загађују реке у равница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имер секундарних асоцијација (пример погреш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, давно претпоставље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асоцијаци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између морталитета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колере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и надморске вис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 3/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р 1852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ржава ондашњу теорију мијазме (рђав ваздух са штетним испарењима узрокује болес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1629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имер секундарних асоцијација (пример погреш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, давно претпоставље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асоцијаци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између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морталитета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колере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и надморске вис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4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р 1852 год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Смртно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 колере већа у подручјима ниже надморске висине, а нижа у вишим регијама са чистијим ваздух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тављена корелација резултат је ограниченог посматрања појаве на подручје Лонд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оз град протиче Темза доњим током па је, не мања надморска висина, него већа загађеност реке отпадним водама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узрочницима колере доприносила већој смртности на овом подручј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ример секундарних асоцијација (пример погрешн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, давно претпостављен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 асоцијациј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) 5/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Yudkin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сахароза → коронарна болест (пушачи узимају већу количину шећера од непушач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оказана значајна повезаност обољења са пушењем цигарета, а секундарна асоцијација са уношењем шећ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ушачи узимају већу количину шећера од непуш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ример секундарних асоцијација (пример погрешн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, давно претпостављен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 асоцијациј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e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) 6/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Yud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Arial Cirilica"/>
              </a:rPr>
              <a:t>Инфарк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миокарда чешћи међу пушачима при свакој количини конзумираног шећ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раст потрошње сахарозе није утицао на инциденцију коронар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560" y="1904760"/>
            <a:ext cx="7010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Узрочна 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КАУЗАЛНА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 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en-US" sz="40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повезаност (асоцијациј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Узрочна 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КАУЗАЛНА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) 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повезаност(асоцијација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финиција: 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посматраним догађајима не значи да је асоцијациј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ањи део статистичке повезаности је каузалан у складу са данашњом дефини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7238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Закључивање о каузалности на основу епидемиолошких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?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 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сновни задатак епидемиолошких истраживањ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дразумев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анац логичког расуђивањ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Да ли је статистичк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овезанос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зложености и болест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основана (сигур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 Да ли укупно сазнање о тестираној повезаности (прикупљено из различитих извора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одржава каузалну вез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кључивање о каузалности на основу епидемиолошких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2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je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студији ИСКЊУЧЕН утицај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лучај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грешке као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нфаундинг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актора закључујемо 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стој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гурна статистичка 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еђу посма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им догађајима, 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знач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а је асоцијациј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и се 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тиологиј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болести 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тиолошка истражи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е везе се проверавају ОПСЕРВАЦИЈ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ксперимен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епидемиологији (експеримент на људи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студије су добре али се ретко спро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литички 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налитичке студије добијају на већем значају као опсервационе студ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2/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ВА начина провере каузалности статистичких асоцијациј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нтролисани експери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итеријуми који подржавају каузалну природу асоциј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560" y="2514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23888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теријуми за процену каузалне повеза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теријуми који показују до које мере неки узрочни фактор одређује настанак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теријуми који подржавају узрочно-последичну ве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ови који подржавају каузалну природу асоциј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знања која подржавају каузалну ве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теријуми који иду у прилог узрочне повеза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итеријуми који повећавају вероватноћу каузалног одн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оје користимо 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Временски редос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са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 у прилог узроч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гађаји узрочно повезани само када временски следе један за дру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лико се јављај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стовреме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ли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зличит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ременским односима (различито претходе један другом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гу се сматрати каузал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кутне зараз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временски след очигледа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рентерално дат лек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после 50-180 дана Б хепатитис (болест се може довести у везу са нестерилним шприцеви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  <a:ea typeface="Arial"/>
              </a:rPr>
              <a:t>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агла промена фактора средине (Лондонска магала 1952.) → ексцесна појава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Хронич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са дугим латентним период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еже утврдити тачан временски однос догађаја који воде до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нос стопе оболевања у изложених и неизложених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/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 неком хипотетичком уз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колико је однос већи, већа је и вероватноћа да је веза куз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 Инциденција болести (стопа оболевања) међу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вакцинисаним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ижа а у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кцинисаних виш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игурниј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рочна веза између вакцине и постигнутог имун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267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ена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 студији појављује се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 у касниј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спитивањима под другим околностима, у различитим популационим групама или уз помоћ других методолошких прист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СЛАГАЊЕ СА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рочна интерпретација прихватљива у односу на степен познавања каузалних фактора и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У колико с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п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етпостављено објашњ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Е слаже с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остојећим ниво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н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реба да се и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през: тренутни ниво знања није у стању да разуме односе који су уствари узрочно-последичн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Догађаји повезани на више начи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. Статистички не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. Статистички повезани (позитивно или   негативн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НЕ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Лаж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екундар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701028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: </a:t>
            </a:r>
            <a:r>
              <a:rPr b="1" lang="sr-CS" sz="2800" spc="-1" strike="noStrike">
                <a:solidFill>
                  <a:srgbClr val="e22904"/>
                </a:solidFill>
                <a:latin typeface="Arial Cirilica"/>
              </a:rPr>
              <a:t>Слагање са постојећим познавањем боле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*)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вај критеријум широко присутан код </a:t>
            </a:r>
            <a:r>
              <a:rPr b="0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удружености пушења и рака плу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Дим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цигарете садржи извесне канцерогене супстан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халацијом дима канцерогени долазе у контакт са плућним ткив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ушење је повезано са сквамозном алтерацијом бронхијалног епитела и сквамозним типом малигнома плочасто-слојевитог епите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уги типови рака плућа (аденокарцином) не асоцирају са пушењем цигаре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П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раст употребе цигарета последњих деценија прати пораст смртности од рака плућ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тепен изложености расте (Е)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→ инциденција рас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 Cirilica"/>
                <a:ea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мерени пушачи умиру више од непушача, а мање од    тешких пуш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Овај критеријум присутан у бројним етиолошким студијама о повезаности пушења и рака плућ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- доктори пушачи (1-14 цигарета дневно) умиру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више од непуш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- пушење 15-24 цигарете дневно, смртност 1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већ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25 цигарета дневно, 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веће умирање од непуша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6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оказ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д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које мер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узрочни фактори одређују настанак болести (специфичност је комплетна ако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а боле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последица сам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г узрок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Један узрок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276720" y="358092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411480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 2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ултикаузална природа обоњеља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алтернативни каузални фа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кумулативно дејство каузалних фак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 јед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од узр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Ф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сам за себе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је довољ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да проузрокује болест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200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505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143000" y="358092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724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*) Пушење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→ рак плућа           *)сви пушачи немају рак плућ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...                           сви оболели нису пуш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→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Обе констатације иду у прилог МУЛТИКАУЗАЛНЕ природе бол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Чиниоци неопходни да би настао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рак плућ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уш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- други </a:t>
            </a:r>
            <a:r>
              <a:rPr b="0" lang="sr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епознат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фактори који повећавају ризик од рака плућа (професионална изложенос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Az, Ni, Cr,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метилхлорид,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аерозагађењ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репознати фа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ојава болести је резултат деловања 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ногобројних чинилац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 везаних за човека и средину у којој жи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320" y="2438280"/>
            <a:ext cx="8991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начај једног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  <a:ea typeface="Arial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оцват бектериологије 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X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веку и упознавање етиологије заразних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Шта је са бројним другим факторима везаним за човека и средин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ТБ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.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пол, узраст, генетска конституција, ухрањеност, социо-економски ус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Сифил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ponema pallid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слови кој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безбеђују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човек и сре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62481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e22904"/>
                </a:solidFill>
                <a:latin typeface="Arial"/>
              </a:rPr>
              <a:t>ДОВОЉАН УЗРОК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СВИ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потребни чиниоци који доводе до појав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боги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рус м. боги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суство специфичног имунитета (осетљива особ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рактеристике средине-трансмисија брза (пренасељеност, збијен смештај, економски услови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матрамо да је фактор у вези са обољењем али статистичк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ма корелац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НЕМА статистичке значајност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методолошком при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постоје индиције да треба тражити узрочно-последичне ве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новити истраж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т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ff"/>
                </a:solidFill>
                <a:latin typeface="Arial"/>
              </a:rPr>
              <a:t>Довољан узро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ногоброј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фактори чине компоненте довољног узорка али с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ам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љни да узрокују оштећење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162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e22904"/>
                </a:solidFill>
                <a:latin typeface="Arial"/>
              </a:rPr>
              <a:t>НЕОПХОДАН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 (нужан) узрок -агенс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мпонента довољно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а која је неопходан услов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инфективни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генс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опхода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 заразних болести су биолош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физички, хемијски и механ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723888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ЕОПХОДАН узрок заразних болести? 1/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иолошки инфективни аге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Вирусни хепатитис 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сле инокулације хуманог серума са узрочником преко нестерилних шприцева и других медицинских инструме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сле трансфузије крви у којој мора да буд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исутан вирус (агенс боле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ирус Хепатитиса Б је аген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ирусног хепатит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811080"/>
            <a:ext cx="678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ЕОПХОДАН узрок заразних болести 2/2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иолошки инфективни аге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Туберкул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. Tuberculosis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је етиолошки аге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Мале боги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вирус малих богиња је аге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Неопходан (нужан) узрок - агенс за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већину хроничних НЕзаразних болести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 већину хроничних незаразних боле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малиг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ардиоваскула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ендемска нефропат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јабет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знавање неопходних чинилаца оску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746748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МАЖУЋИ ФАКТОРИ или ФАКТОРИ РИЗИК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ткривени 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пидемиолошким студијама и даље се открив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зани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арактеристике домаћ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иносе појави болест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алигни т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.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к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В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ендемска нефропатиј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ијабете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Помажући фактори или фактори риз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о дана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дентификоване број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оч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мпонент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разних облика канц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Теже да откријем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каузалне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 механизм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ји ће имати каракте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опходног узрок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римо 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има ризи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и заједно чин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довоља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7440"/>
            <a:ext cx="7620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2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Фактор у вези са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обољењем и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 Cirilica"/>
              </a:rPr>
              <a:t>статистички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 значајна веза доказ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начи да су појаве у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узрочно-последичн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з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оследица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су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секундар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овеза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актор и обољење су повезани с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аријаблом па добијамо повезаност ф. и обољења, а не што су они стварно повезан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ећи фактор (конфаундин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ешати, уплитати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есто присутан у епидемиологиј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пречава да сагледамо прави однос обољења и фак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3/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Две појаве су заиста у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УЗАЛНО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дно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ади се о висок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гнификантној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а је послед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нфаундинг фак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в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ако откривамо праву повезаност? Посматрањем анамнестичким и кохортним студијама и пажљивом интерпретацијом резул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685800"/>
            <a:ext cx="6781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Тенденција временск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повезаност</a:t>
            </a: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огађаја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зрочна асоцијациј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 неким случајеви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ез у одређивању каузалних в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када важеће асоцијације данас више не ва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ам узрока и последице релати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висно од познавања природе узрочних ф. и њихових последица појаву означавамо као узрок (последиц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03-13T10:36:24Z</dcterms:modified>
  <cp:revision>1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